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F72-6656-4830-9F61-D3B7C5D2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821-A9AE-47C9-9F6D-DE967C6E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25D-617D-4304-97D7-95144AD5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ADA-F71F-46D2-8ED6-76534F35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FCE-3025-4659-B623-C4C9F6FA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39E-D250-4E3B-9028-D31224C5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EC4-6A66-4D32-8A86-644417CB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A15-BDA8-4EDB-9387-80F924B6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5C7-B7AD-4B8D-9B5A-09F37A0F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FF5F-CFE8-4B73-9F93-91D3E16F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CBD-16BD-4E99-8D2A-D9635E6E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933-AEAB-480F-82DF-9B611341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8FF7-9820-4470-B469-084D0C730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animal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brainstorm countries where they talk Spanish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revise numbers 1-3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numbers 1 to a mill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Play fling the teach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och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nov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628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3573360"/>
            <a:ext cx="11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6922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400536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2060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157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5084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2133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93080" y="5589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29242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40720" y="18900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581360"/>
            <a:ext cx="835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 y un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o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92360" y="260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3068640"/>
            <a:ext cx="828036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500" spc="-1" strike="noStrike">
                <a:solidFill>
                  <a:srgbClr val="000000"/>
                </a:solidFill>
                <a:latin typeface="Arial"/>
              </a:rPr>
              <a:t>doscientos y uno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500" spc="-1" strike="noStrike">
                <a:solidFill>
                  <a:srgbClr val="000000"/>
                </a:solidFill>
                <a:latin typeface="Arial"/>
              </a:rPr>
              <a:t>Use “y” up to 17 e.g. dos cientos diecisiet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268280"/>
            <a:ext cx="8280360" cy="131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re do they talk Spanish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581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uatro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quin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i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sete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ocho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nove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m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268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mill</a:t>
            </a:r>
            <a:r>
              <a:rPr b="1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268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00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581360"/>
            <a:ext cx="820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os millo</a:t>
            </a:r>
            <a:r>
              <a:rPr b="1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n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620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28640"/>
            <a:ext cx="15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57336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69228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40053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206064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16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5084640"/>
            <a:ext cx="21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2133720"/>
            <a:ext cx="21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37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6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5589720"/>
            <a:ext cx="21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7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92428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189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iez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vein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718080"/>
            <a:ext cx="705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veint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nco etc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60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Arial"/>
              </a:rPr>
              <a:t>BUT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i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718080"/>
            <a:ext cx="705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inta y d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60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Arial"/>
              </a:rPr>
              <a:t>BUT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581360"/>
            <a:ext cx="612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uar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581360"/>
            <a:ext cx="612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ncu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2:07:19Z</dcterms:created>
  <dc:creator>Chris Fuller</dc:creator>
  <dc:description/>
  <dc:language>en-US</dc:language>
  <cp:lastModifiedBy>Owner1</cp:lastModifiedBy>
  <dcterms:modified xsi:type="dcterms:W3CDTF">2008-10-07T15:49:35Z</dcterms:modified>
  <cp:revision>3</cp:revision>
  <dc:subject/>
  <dc:title>Slide 1</dc:title>
</cp:coreProperties>
</file>